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B75-41B1-4AF3-88CF-887203E4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103-F845-4A81-9733-3980795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5BE-F9B2-416A-B6F8-09053DED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C17-0914-4CFB-B8EB-6B59701C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378-06D4-48A1-9B5F-79DDD5A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75C-20E6-432C-80EC-A1D8D25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845-770B-4ED4-BDD3-A924564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EBB-E91C-4D7C-AAF5-004A0602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1E7-F90C-4AC6-AC7B-3BC7360F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A3C-C212-453F-A881-74E397B7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314-3021-41EC-BC1F-8FF922B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145A-B42C-4A79-B364-A91D930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C32E-F808-4D11-9FC4-C327842E5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lum contrast="6000"/>
            <a:alphaModFix amt="98000"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3b2</cp:lastModifiedBy>
  <dcterms:modified xsi:type="dcterms:W3CDTF">2007-05-03T02:25:55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